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08B3-AFF9-44FE-8161-FF6AD3EC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44E-41EE-4804-9217-91941EF4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BED-D3FF-4992-8C7D-79830222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4D2-2472-4CB4-A046-8F4D01F2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5C06-5406-45BC-ACE2-45693015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59C3-D588-494C-9CD2-70A0B8AC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49D3-6135-4040-8F3E-78FAEEF6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B8C5-C71B-4BDE-9BB0-E006374D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8F9-861C-4876-AB13-1DE942E6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6585-C2BE-4661-9984-B7373FC7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6187-7051-4337-960E-137781C4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2B8-65E6-4000-ADE0-530BA7FE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F7BD-4DC8-43B1-86B5-FE1FEA730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kusz Kalkulacyjny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crosoft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zypomnien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kusz kalkulacyjny – definic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owa i podstawowe eleme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ytowanie komórek w arkus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stawowe operacje na liczbach w arkus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Ćwiczeni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792000" y="333360"/>
          <a:ext cx="4670640" cy="62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333360"/>
                    <a:ext cx="467064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084720" y="549360"/>
            <a:ext cx="2735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 prawym przyciskiem myszy mamy ciekawe opcje dotyczące formatowania komó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4000" y="259920"/>
            <a:ext cx="8820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czas projektowania formularza można podzielić komórkę tabeli w tabeli układu dwie lub więcej komórek. Można także scalić dwie lub więcej komórek tabeli w jedną komórkę. Podczas wypełniania formularza można dzielić lub scalać komórki tabeli wstawionej w polu tekstu sformatowan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413000"/>
          <a:ext cx="5346720" cy="27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5346720" cy="27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332000" y="4581360"/>
          <a:ext cx="1527120" cy="137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581360"/>
                    <a:ext cx="1527120" cy="13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2384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5589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780000" y="1700280"/>
          <a:ext cx="5148000" cy="463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1700280"/>
                    <a:ext cx="514800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95280" y="260280"/>
          <a:ext cx="3429000" cy="633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342900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4932360" y="620640"/>
            <a:ext cx="2735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 prawym przyciskiem myszy mamy ciekawe opcje dotyczące formatowania komó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1200" y="4365720"/>
            <a:ext cx="24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ąg dalsz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95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1714680"/>
          <a:ext cx="5580000" cy="48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14680"/>
                    <a:ext cx="5580000" cy="48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364000" y="1197000"/>
          <a:ext cx="3538800" cy="396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1197000"/>
                    <a:ext cx="353880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946080" y="0"/>
            <a:ext cx="79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 prawym przyciskiem myszy mamy ciekawe opcje dotyczące formatowania komó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5516640"/>
            <a:ext cx="38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ąg dalsz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42920" y="1413000"/>
          <a:ext cx="6624720" cy="48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13000"/>
                    <a:ext cx="6624720" cy="48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766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 prawym przyciskiem myszy mamy ciekawe opcje dotyczące formatowania komó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6278400"/>
            <a:ext cx="242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ąg dalsz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95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59280" y="260280"/>
          <a:ext cx="579744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60280"/>
                    <a:ext cx="579744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50920" y="476280"/>
            <a:ext cx="2846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 prawym przyciskiem myszy mamy ciekawe opcje dotyczące formatowania komó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0840" y="4221000"/>
            <a:ext cx="24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ąg dalsz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95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987640" y="1103400"/>
          <a:ext cx="6156360" cy="53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103400"/>
                    <a:ext cx="615636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79280" y="620640"/>
            <a:ext cx="3089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 prawym przyciskiem myszy mamy ciekawe opcje dotyczące formatowania komó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200" y="4365720"/>
            <a:ext cx="27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ąg dalsz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95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7308720" cy="5481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0920" y="544500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 prawym przyciskiem myszy mamy ciekawe opcje dotyczące formatowania komó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060640"/>
            <a:ext cx="151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ąg dalsz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95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kusz kalkulacyjny – definic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owa i podstawowe eleme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ytowanie komórek w arkus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stawowe operacje na liczbach w arkus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Ćwiczeni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95280" y="1125360"/>
          <a:ext cx="8569440" cy="31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56944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95280" y="333000"/>
            <a:ext cx="86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FORMUŁ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- to zestaw działań i adresów komórek, które zawierają wartości liczbowe, zwracajacy wynik wykonywanego obli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780000" y="1699920"/>
            <a:ext cx="3744720" cy="136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4675680"/>
            <a:ext cx="8893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peracje potęgowania to „^” pierwiastkowanie to „=pierwiastek(A3)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res komórek to np.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4:D4 oddzielony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wukropkiem, kilka zakresów można oddzielić tak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4:F4; F5:H6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oddzielone średniki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PISYWANIE FORMUŁY (WZORU):wzór zawsze zaczyna się od znaku "=" n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=a1+a2+d3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=SUMA(b1:g3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dy we wzorze konieczne jest wyszczególnienie obszaru podaje się go poprzez podanie adresu górnej lewej komórki oraz pisane po dwukropku adresu dolnej prawej komórki np. c1:e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zyli jest to obszar w kształcie prostokąta gdzie lewy górny róg ma adres c1 a dolny prawy ma adres e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kusz kalkulacyjny – definic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owa i podstawowe eleme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ytowanie komórek w arkus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stawowe operacje na liczbach w arkus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Ćwiczeni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68360" y="981000"/>
          <a:ext cx="7777080" cy="371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81000"/>
                    <a:ext cx="7777080" cy="37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95280" y="333000"/>
            <a:ext cx="86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FORMUŁ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- to zestaw działań i adresów komórek, które zawierają wartości liczbowe, zwracajacy wynik wykonywanego obli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987280" y="1413000"/>
            <a:ext cx="3529080" cy="20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675680"/>
            <a:ext cx="8893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peracje potęgowania to „^” pierwiastkowanie to „=pierwiastek(A3)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res komórek to np.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4:D4 oddzielony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wukropkiem, kilka zakresów można oddzielić tak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4:F4; F5:H6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oddzielone średniki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PISYWANIE FORMUŁY (WZORU):wzór zawsze zaczyna się od znaku "=" n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=a1+a2+d3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=SUMA(b1:g3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dy we wzorze konieczne jest wyszczególnienie obszaru podaje się go poprzez podanie adresu górnej lewej komórki oraz pisane po dwukropku adresu dolnej prawej komórki np. c1:e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zyli jest to obszar w kształcie prostokąta gdzie lewy górny róg ma adres c1 a dolny prawy ma adres e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395280" y="1125360"/>
          <a:ext cx="8569440" cy="31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56944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95280" y="333000"/>
            <a:ext cx="86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FORMUŁ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- to zestaw działań i adresów komórek, które zawierają wartości liczbowe, zwracajacy wynik wykonywanego obli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3780000" y="1699920"/>
            <a:ext cx="3744720" cy="136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4675680"/>
            <a:ext cx="8893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peracje potęgowania to „^” pierwiastkowanie to „=pierwiastek(A3)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res komórek to np.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4:D4 oddzielony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wukropkiem, kilka zakresów można oddzielić tak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4:F4; F5:H6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oddzielone średniki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PISYWANIE FORMUŁY (WZORU):wzór zawsze zaczyna się od znaku "=" n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=a1+a2+d3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=SUMA(b1:g3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dy we wzorze konieczne jest wyszczególnienie obszaru podaje się go poprzez podanie adresu górnej lewej komórki oraz pisane po dwukropku adresu dolnej prawej komórki np. c1:e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zyli jest to obszar w kształcie prostokąta gdzie lewy górny róg ma adres c1 a dolny prawy ma adres e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łę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jpopularniejsze błę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79640" y="2565360"/>
          <a:ext cx="6119640" cy="38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565360"/>
                    <a:ext cx="6119640" cy="38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7341E-006 C 0.13941 -0.11792 0.5184 0.03098 0.45868 0.04231 C 0.39896 0.05364 -0.36615 0.03468 -0.35868 0.06774 C -0.35122 0.10081 0.50868 0.17919 0.50312 0.24115 C 0.49757 0.30312 -0.3908 0.37665 -0.39202 0.43977 C -0.39323 0.50289 0.49288 0.56763 0.49531 0.61942 C 0.49774 0.67121 -0.29445 0.85433 -0.37795 0.75052 C -0.46129 0.6467 -0.13941 0.11792 3.05556E-006 -1.7341E-006 Z">
                                      <p:cBhvr>
                                        <p:cTn id="425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kusz kalkulacyjny – definic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owa i podstawowe eleme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ytowanie komórek w arkus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stawowe operacje na liczbach w arkus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Ćwiczeni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Ćwiczeni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4000" y="1452600"/>
          <a:ext cx="8351640" cy="47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52600"/>
                    <a:ext cx="8351640" cy="47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5254560"/>
            <a:ext cx="8964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rkusz kalkulacyjny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umożliwia tworzenie dokumentów w postaci tabel. Można w nich umieszczać dane i zlecać programowi wykonanie skomplikowanych obliczeń np. kalkulacje wydatków, kosztów, obliczenia finansowe. Dane i wyniki można prezentować w postaci wykresów. Dokument arkusza można zapisać na dysku twardym bądź dyskietce oraz wydrukowa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jbardziej znanymi programami tego typu są: arkusz Microsoft Excel oraz prosty w obsłudze arkusz w pakiecie programów MS Works z innych to Lotus, Quat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Widok okna programu Excel"/>
          <p:cNvPicPr/>
          <p:nvPr/>
        </p:nvPicPr>
        <p:blipFill>
          <a:blip r:embed="rId1"/>
          <a:stretch/>
        </p:blipFill>
        <p:spPr>
          <a:xfrm>
            <a:off x="1258920" y="14400"/>
            <a:ext cx="67690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243 0.8474 C -0.17708 0.67561 -0.20156 0.50358 -0.09687 0.49896 C 0.00781 0.4941 0.33455 0.82751 0.47604 0.81988 C 0.61754 0.81249 0.82309 0.53642 0.75226 0.45457 C 0.68143 0.37225 0.08316 0.38798 0.0507 0.3274 C 0.01823 0.26705 0.56563 0.1452 0.55712 0.09087 C 0.54861 0.0363 0.27431 0.01803 1.11111E-006 3.58382E-006 E">
                                      <p:cBhvr>
                                        <p:cTn id="71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kusz kalkulacyjny – definic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dowa i podstawowe eleme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ytowanie komórek w arkus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stawowe operacje na liczbach w arkus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Ćwiczeni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1" descr=""/>
          <p:cNvPicPr/>
          <p:nvPr/>
        </p:nvPicPr>
        <p:blipFill>
          <a:blip r:embed="rId1"/>
          <a:stretch/>
        </p:blipFill>
        <p:spPr>
          <a:xfrm>
            <a:off x="250920" y="271440"/>
            <a:ext cx="8713800" cy="618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Widok okna programu Excel"/>
          <p:cNvPicPr/>
          <p:nvPr/>
        </p:nvPicPr>
        <p:blipFill>
          <a:blip r:embed="rId1"/>
          <a:stretch/>
        </p:blipFill>
        <p:spPr>
          <a:xfrm>
            <a:off x="324000" y="403200"/>
            <a:ext cx="8642160" cy="645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943280" y="5589720"/>
            <a:ext cx="468000" cy="64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00360" y="5083200"/>
            <a:ext cx="2447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ki arkus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0000" y="3067200"/>
            <a:ext cx="244764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órka aktyw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618920" y="242064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2997360"/>
            <a:ext cx="2448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ks kolum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4564800" y="2062440"/>
            <a:ext cx="881280" cy="93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75528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4005360"/>
            <a:ext cx="2447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 wiers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619280" y="1773360"/>
            <a:ext cx="1008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2349360"/>
            <a:ext cx="2448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e adre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618720" y="1839600"/>
            <a:ext cx="3483720" cy="58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3640" y="2421000"/>
            <a:ext cx="2448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e edy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39640" y="333360"/>
          <a:ext cx="6912000" cy="47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33360"/>
                    <a:ext cx="6912000" cy="47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311120" y="532116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żna też zmienić nazwę, dodać lub usunąć arkusz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kusz kalkulacyjny – definic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owa i podstawowe eleme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ytowanie komórek w arkus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stawowe operacje na liczbach w arkus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Ćwiczeni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Widok okna programu Excel"/>
          <p:cNvPicPr/>
          <p:nvPr/>
        </p:nvPicPr>
        <p:blipFill>
          <a:blip r:embed="rId1"/>
          <a:stretch/>
        </p:blipFill>
        <p:spPr>
          <a:xfrm>
            <a:off x="0" y="0"/>
            <a:ext cx="5113440" cy="3821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64000" y="350640"/>
            <a:ext cx="37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KUS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jest to prostokątny obszar złożony z komórek. Liczba kolumn zwykle wynosi 256, liczba wierszy to 65.53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4595040"/>
            <a:ext cx="878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ażda komórka ma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iepowtarzalny adre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składający się z określenia literowego ( może być dwuliterowe) kolumny oraz określenia liczbowego wiersza np. A4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ynności, które możemy wykonywać na komórk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zmiana ich wymiarów czyli szerokości i wysokośc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łączenie(scalani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zaznaczanie jako bloki(kopiowanie, wklejanie, czyszczeni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9640" y="1628640"/>
            <a:ext cx="37450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kument arkusza kalkulacyjnego jest podzielony na wiersze i kolumny,a więc na wiele prostokątnych pól. Nazywane są one komórk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omórk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jest najmniejszą jednostką informacyjną w tabeli: można w nią wpisywać liczby, tekst lub formuł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1:32:46Z</dcterms:created>
  <dc:creator>q</dc:creator>
  <dc:description/>
  <dc:language>en-US</dc:language>
  <cp:lastModifiedBy>q</cp:lastModifiedBy>
  <dcterms:modified xsi:type="dcterms:W3CDTF">2006-12-18T16:30:18Z</dcterms:modified>
  <cp:revision>14</cp:revision>
  <dc:subject/>
  <dc:title>Slajd 1</dc:title>
</cp:coreProperties>
</file>